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168313" cy="23410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A20A-90E9-4A1F-8168-A2C3F2891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448-C4C8-43C7-8568-7402D797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C023-4F5C-46FD-A151-B0450F92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596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7348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5844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66596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7348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331F4-6D88-4AD8-8053-B93DD7BA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9460-8857-406A-A78B-7AFFD1B56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0680-FC75-40E3-85A0-E0E3CFA20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8E177-DB97-4B9E-9860-B79ADB98E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4EEB9-FE8A-4436-8EBC-15498753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58440" y="936360"/>
            <a:ext cx="11852280" cy="180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66B7F-D02A-4E16-81A1-572A53F68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D5D0-CA16-4C56-9DC2-F919C998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F2E6-D625-42F3-BB75-1D4E1FC37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AF7C1-4F30-4501-9084-4EA86840C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marL="784080" indent="-784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698480" indent="-653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612880" indent="-52200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657600" indent="-5223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44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8560" y="21319920"/>
            <a:ext cx="417204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3740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F4620-779F-4687-82AC-AD8A2E94FA15}" type="slidenum">
              <a:rPr b="0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図 22" descr=""/>
          <p:cNvPicPr/>
          <p:nvPr/>
        </p:nvPicPr>
        <p:blipFill>
          <a:blip r:embed="rId1"/>
          <a:stretch/>
        </p:blipFill>
        <p:spPr>
          <a:xfrm>
            <a:off x="0" y="11160"/>
            <a:ext cx="13169880" cy="23388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37"/>
          <p:cNvSpPr/>
          <p:nvPr/>
        </p:nvSpPr>
        <p:spPr>
          <a:xfrm>
            <a:off x="1038240" y="14654160"/>
            <a:ext cx="3510000" cy="18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STORE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1" lang="en-US" sz="5500" spc="-1" strike="noStrike">
                <a:solidFill>
                  <a:srgbClr val="000000"/>
                </a:solidFill>
                <a:latin typeface="Arial"/>
                <a:ea typeface="HGP創英角ｺﾞｼｯｸUB"/>
              </a:rPr>
              <a:t>LOGOS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137"/>
          <p:cNvSpPr/>
          <p:nvPr/>
        </p:nvSpPr>
        <p:spPr>
          <a:xfrm>
            <a:off x="839880" y="4575240"/>
            <a:ext cx="4189320" cy="56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ndara"/>
                <a:ea typeface="Dotum"/>
              </a:rPr>
              <a:t>Lorem ipsum dolor sit amet, singulis platonem maiestatis ex qu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57" descr=""/>
          <p:cNvPicPr/>
          <p:nvPr/>
        </p:nvPicPr>
        <p:blipFill>
          <a:blip r:embed="rId2"/>
          <a:stretch/>
        </p:blipFill>
        <p:spPr>
          <a:xfrm>
            <a:off x="9532800" y="482760"/>
            <a:ext cx="3038760" cy="3036600"/>
          </a:xfrm>
          <a:prstGeom prst="rect">
            <a:avLst/>
          </a:prstGeom>
          <a:ln w="0">
            <a:noFill/>
          </a:ln>
        </p:spPr>
      </p:pic>
      <p:grpSp>
        <p:nvGrpSpPr>
          <p:cNvPr id="45" name="グループ化 17"/>
          <p:cNvGrpSpPr/>
          <p:nvPr/>
        </p:nvGrpSpPr>
        <p:grpSpPr>
          <a:xfrm>
            <a:off x="596880" y="10541160"/>
            <a:ext cx="5472000" cy="3682800"/>
            <a:chOff x="596880" y="10541160"/>
            <a:chExt cx="5472000" cy="3682800"/>
          </a:xfrm>
        </p:grpSpPr>
        <p:pic>
          <p:nvPicPr>
            <p:cNvPr id="46" name="Picture 132" descr="バッグ"/>
            <p:cNvPicPr/>
            <p:nvPr/>
          </p:nvPicPr>
          <p:blipFill>
            <a:blip r:embed="rId3"/>
            <a:srcRect l="0" t="-1061" r="0" b="0"/>
            <a:stretch/>
          </p:blipFill>
          <p:spPr>
            <a:xfrm>
              <a:off x="596880" y="10541160"/>
              <a:ext cx="4393080" cy="368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テキスト ボックス 14"/>
            <p:cNvSpPr/>
            <p:nvPr/>
          </p:nvSpPr>
          <p:spPr>
            <a:xfrm>
              <a:off x="914400" y="13134240"/>
              <a:ext cx="515448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グループ化 16"/>
          <p:cNvGrpSpPr/>
          <p:nvPr/>
        </p:nvGrpSpPr>
        <p:grpSpPr>
          <a:xfrm>
            <a:off x="-128520" y="18786600"/>
            <a:ext cx="5975280" cy="3805200"/>
            <a:chOff x="-128520" y="18786600"/>
            <a:chExt cx="5975280" cy="3805200"/>
          </a:xfrm>
        </p:grpSpPr>
        <p:pic>
          <p:nvPicPr>
            <p:cNvPr id="49" name="図 25" descr=""/>
            <p:cNvPicPr/>
            <p:nvPr/>
          </p:nvPicPr>
          <p:blipFill>
            <a:blip r:embed="rId4"/>
            <a:stretch/>
          </p:blipFill>
          <p:spPr>
            <a:xfrm>
              <a:off x="-128520" y="18786600"/>
              <a:ext cx="5843880" cy="380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テキスト ボックス 15"/>
            <p:cNvSpPr/>
            <p:nvPr/>
          </p:nvSpPr>
          <p:spPr>
            <a:xfrm>
              <a:off x="692640" y="20684880"/>
              <a:ext cx="515412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グループ化 23"/>
          <p:cNvGrpSpPr/>
          <p:nvPr/>
        </p:nvGrpSpPr>
        <p:grpSpPr>
          <a:xfrm>
            <a:off x="6303960" y="4322880"/>
            <a:ext cx="2992320" cy="2830320"/>
            <a:chOff x="6303960" y="4322880"/>
            <a:chExt cx="2992320" cy="2830320"/>
          </a:xfrm>
        </p:grpSpPr>
        <p:pic>
          <p:nvPicPr>
            <p:cNvPr id="52" name="Picture 131" descr="バッグ"/>
            <p:cNvPicPr/>
            <p:nvPr/>
          </p:nvPicPr>
          <p:blipFill>
            <a:blip r:embed="rId5"/>
            <a:srcRect l="0" t="0" r="-3554" b="0"/>
            <a:stretch/>
          </p:blipFill>
          <p:spPr>
            <a:xfrm>
              <a:off x="6330960" y="4322880"/>
              <a:ext cx="2860560" cy="28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テキスト ボックス 19"/>
            <p:cNvSpPr/>
            <p:nvPr/>
          </p:nvSpPr>
          <p:spPr>
            <a:xfrm>
              <a:off x="6303960" y="5347800"/>
              <a:ext cx="299232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グループ化 24"/>
          <p:cNvGrpSpPr/>
          <p:nvPr/>
        </p:nvGrpSpPr>
        <p:grpSpPr>
          <a:xfrm>
            <a:off x="9767880" y="4575240"/>
            <a:ext cx="3075120" cy="2577960"/>
            <a:chOff x="9767880" y="4575240"/>
            <a:chExt cx="3075120" cy="2577960"/>
          </a:xfrm>
        </p:grpSpPr>
        <p:pic>
          <p:nvPicPr>
            <p:cNvPr id="55" name="Picture 127" descr="サングラス"/>
            <p:cNvPicPr/>
            <p:nvPr/>
          </p:nvPicPr>
          <p:blipFill>
            <a:blip r:embed="rId6"/>
            <a:stretch/>
          </p:blipFill>
          <p:spPr>
            <a:xfrm>
              <a:off x="9767880" y="4575240"/>
              <a:ext cx="3075120" cy="257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テキスト ボックス 20"/>
            <p:cNvSpPr/>
            <p:nvPr/>
          </p:nvSpPr>
          <p:spPr>
            <a:xfrm>
              <a:off x="9849960" y="5250960"/>
              <a:ext cx="299304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グループ化 22"/>
          <p:cNvGrpSpPr/>
          <p:nvPr/>
        </p:nvGrpSpPr>
        <p:grpSpPr>
          <a:xfrm>
            <a:off x="5635800" y="7523280"/>
            <a:ext cx="7207200" cy="15571800"/>
            <a:chOff x="5635800" y="7523280"/>
            <a:chExt cx="7207200" cy="15571800"/>
          </a:xfrm>
        </p:grpSpPr>
        <p:pic>
          <p:nvPicPr>
            <p:cNvPr id="58" name="図 24" descr=""/>
            <p:cNvPicPr/>
            <p:nvPr/>
          </p:nvPicPr>
          <p:blipFill>
            <a:blip r:embed="rId7"/>
            <a:stretch/>
          </p:blipFill>
          <p:spPr>
            <a:xfrm>
              <a:off x="5635800" y="7523280"/>
              <a:ext cx="7207200" cy="1557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テキスト ボックス 21"/>
            <p:cNvSpPr/>
            <p:nvPr/>
          </p:nvSpPr>
          <p:spPr>
            <a:xfrm>
              <a:off x="7882920" y="15586560"/>
              <a:ext cx="299268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グループ化 25"/>
          <p:cNvGrpSpPr/>
          <p:nvPr/>
        </p:nvGrpSpPr>
        <p:grpSpPr>
          <a:xfrm>
            <a:off x="5688000" y="366840"/>
            <a:ext cx="3456000" cy="3371760"/>
            <a:chOff x="5688000" y="366840"/>
            <a:chExt cx="3456000" cy="3371760"/>
          </a:xfrm>
        </p:grpSpPr>
        <p:pic>
          <p:nvPicPr>
            <p:cNvPr id="61" name="Picture 124" descr=""/>
            <p:cNvPicPr/>
            <p:nvPr/>
          </p:nvPicPr>
          <p:blipFill>
            <a:blip r:embed="rId8"/>
            <a:stretch/>
          </p:blipFill>
          <p:spPr>
            <a:xfrm>
              <a:off x="5688000" y="366840"/>
              <a:ext cx="3453120" cy="33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テキスト ボックス 18"/>
            <p:cNvSpPr/>
            <p:nvPr/>
          </p:nvSpPr>
          <p:spPr>
            <a:xfrm>
              <a:off x="6151320" y="2036520"/>
              <a:ext cx="2992680" cy="134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100" spc="-1" strike="noStrike">
                  <a:solidFill>
                    <a:srgbClr val="ffff00"/>
                  </a:solidFill>
                  <a:latin typeface="Arial"/>
                </a:rPr>
                <a:t>Simulated image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9-07T02:22:50Z</dcterms:modified>
  <cp:revision>45</cp:revision>
  <dc:subject/>
  <dc:title>スライド 1</dc:title>
</cp:coreProperties>
</file>