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58F-9F0B-4E05-AE33-352A4253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84E-FC3C-4B45-AA70-E43BE686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756-937F-49A3-944B-ABAB9525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19C-BF0F-4B10-8D5D-83DD89E2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2B4-9389-44C5-903E-06E1024D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EA4-AD78-48D1-8DF2-3C3C115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05D-ED72-4E9E-948B-9A64BCBC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4B4-DC5F-4157-93AC-C996B2CE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E9A-B8BE-47D6-ADC2-C7A6BC83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6AA-6AD8-4BEB-BD3C-97BAE46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BD6-E914-4BB9-9741-68228FA0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AFC-0E9A-45F6-ACA3-30EC160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DB2C-2157-4910-ACDA-95D9D94A541E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5" descr="C:\Users\masai_team2\Pictures\backのコピー.jpg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C:\Users\masai_team2\Pictures\backのコピー.jpg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19843920" y="1030140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868200" y="11560320"/>
            <a:ext cx="95187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ＭＳ Ｐゴシック"/>
              </a:rPr>
              <a:t>Store Name or Lo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0"/>
          <p:cNvSpPr/>
          <p:nvPr/>
        </p:nvSpPr>
        <p:spPr>
          <a:xfrm>
            <a:off x="7867800" y="257040"/>
            <a:ext cx="1609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0" spc="-1" strike="noStrike">
                <a:solidFill>
                  <a:srgbClr val="ff66cc"/>
                </a:solidFill>
                <a:latin typeface="Bickham Script Pro Semibold"/>
              </a:rPr>
              <a:t>Flower Arrangements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6"/>
          <p:cNvSpPr/>
          <p:nvPr/>
        </p:nvSpPr>
        <p:spPr>
          <a:xfrm>
            <a:off x="7402680" y="1167300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6"/>
          <p:cNvSpPr/>
          <p:nvPr/>
        </p:nvSpPr>
        <p:spPr>
          <a:xfrm>
            <a:off x="1933560" y="1064412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グループ化 21"/>
          <p:cNvGrpSpPr/>
          <p:nvPr/>
        </p:nvGrpSpPr>
        <p:grpSpPr>
          <a:xfrm>
            <a:off x="2690640" y="3270240"/>
            <a:ext cx="4856400" cy="6858000"/>
            <a:chOff x="2690640" y="3270240"/>
            <a:chExt cx="4856400" cy="6858000"/>
          </a:xfrm>
        </p:grpSpPr>
        <p:pic>
          <p:nvPicPr>
            <p:cNvPr id="49" name="Picture 26" descr="shutterstock_14255494"/>
            <p:cNvPicPr/>
            <p:nvPr/>
          </p:nvPicPr>
          <p:blipFill>
            <a:blip r:embed="rId2"/>
            <a:stretch/>
          </p:blipFill>
          <p:spPr>
            <a:xfrm>
              <a:off x="2690640" y="3270240"/>
              <a:ext cx="4856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8"/>
            <p:cNvSpPr/>
            <p:nvPr/>
          </p:nvSpPr>
          <p:spPr>
            <a:xfrm>
              <a:off x="3993840" y="5852880"/>
              <a:ext cx="2300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5000" spc="-1" strike="noStrike">
                  <a:solidFill>
                    <a:srgbClr val="ff0000"/>
                  </a:solidFill>
                  <a:latin typeface="Arial"/>
                </a:rPr>
                <a:t>Sample Photo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グループ化 22"/>
          <p:cNvGrpSpPr/>
          <p:nvPr/>
        </p:nvGrpSpPr>
        <p:grpSpPr>
          <a:xfrm>
            <a:off x="8201160" y="7524720"/>
            <a:ext cx="5029200" cy="3770280"/>
            <a:chOff x="8201160" y="7524720"/>
            <a:chExt cx="5029200" cy="3770280"/>
          </a:xfrm>
        </p:grpSpPr>
        <p:pic>
          <p:nvPicPr>
            <p:cNvPr id="52" name="Picture 25" descr="shutterstock_3660923"/>
            <p:cNvPicPr/>
            <p:nvPr/>
          </p:nvPicPr>
          <p:blipFill>
            <a:blip r:embed="rId3"/>
            <a:stretch/>
          </p:blipFill>
          <p:spPr>
            <a:xfrm>
              <a:off x="8201160" y="7524720"/>
              <a:ext cx="5029200" cy="37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2"/>
            <p:cNvSpPr/>
            <p:nvPr/>
          </p:nvSpPr>
          <p:spPr>
            <a:xfrm>
              <a:off x="9406080" y="8624880"/>
              <a:ext cx="2300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5000" spc="-1" strike="noStrike">
                  <a:solidFill>
                    <a:srgbClr val="ff0000"/>
                  </a:solidFill>
                  <a:latin typeface="Arial"/>
                </a:rPr>
                <a:t>Sample Photo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33"/>
          <p:cNvSpPr/>
          <p:nvPr/>
        </p:nvSpPr>
        <p:spPr>
          <a:xfrm>
            <a:off x="16722720" y="9420120"/>
            <a:ext cx="3786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</a:rPr>
              <a:t>写真はイメージ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7" descr="shutterstock_70897414"/>
          <p:cNvPicPr/>
          <p:nvPr/>
        </p:nvPicPr>
        <p:blipFill>
          <a:blip r:embed="rId4"/>
          <a:stretch/>
        </p:blipFill>
        <p:spPr>
          <a:xfrm>
            <a:off x="13926960" y="5070600"/>
            <a:ext cx="7709040" cy="5075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2"/>
          <p:cNvSpPr/>
          <p:nvPr/>
        </p:nvSpPr>
        <p:spPr>
          <a:xfrm>
            <a:off x="16702200" y="7176960"/>
            <a:ext cx="2300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Sample Pho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7:48Z</dcterms:modified>
  <cp:revision>23</cp:revision>
  <dc:subject/>
  <dc:title>スライド 1</dc:title>
</cp:coreProperties>
</file>