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45C-9A12-47D8-8C47-9B6CC31B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CA1-68A8-4DB1-8326-DA7031DF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CAE-0C1A-422F-ADE2-ABBC75D6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853-3AC7-4B70-AC4E-8DFE6792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02D-2FC7-4564-AED9-77E0D037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145-8326-4C78-AE73-2909D853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F117-6985-4DBB-A967-F224ED6E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9EC-1CC8-40EF-9997-92F4F6D1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C73-1C18-4D39-8069-92C9B129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6E2-5E1A-437A-9D67-2C9EA59C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F1D-4F10-4AA8-90DF-C7FF80F6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7AB-917F-45E6-B809-08D16605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94FC-28A6-4DB7-9040-8EB440A496FF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5" descr="C:\Users\masai_team2\Pictures\backのコピー.jpg"/>
          <p:cNvPicPr/>
          <p:nvPr/>
        </p:nvPicPr>
        <p:blipFill>
          <a:blip r:embed="rId2"/>
          <a:stretch/>
        </p:blipFill>
        <p:spPr>
          <a:xfrm>
            <a:off x="0" y="0"/>
            <a:ext cx="23410800" cy="131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C:\Users\masai_team2\Pictures\backのコピー.jpg"/>
          <p:cNvPicPr/>
          <p:nvPr/>
        </p:nvPicPr>
        <p:blipFill>
          <a:blip r:embed="rId1"/>
          <a:stretch/>
        </p:blipFill>
        <p:spPr>
          <a:xfrm>
            <a:off x="0" y="0"/>
            <a:ext cx="23410800" cy="1316988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6"/>
          <p:cNvSpPr/>
          <p:nvPr/>
        </p:nvSpPr>
        <p:spPr>
          <a:xfrm>
            <a:off x="19843920" y="10301400"/>
            <a:ext cx="204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2868200" y="11560320"/>
            <a:ext cx="95187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ＭＳ Ｐゴシック"/>
              </a:rPr>
              <a:t>Store Name or Log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0"/>
          <p:cNvSpPr/>
          <p:nvPr/>
        </p:nvSpPr>
        <p:spPr>
          <a:xfrm>
            <a:off x="7867800" y="257040"/>
            <a:ext cx="1609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0" spc="-1" strike="noStrike">
                <a:solidFill>
                  <a:srgbClr val="ff66cc"/>
                </a:solidFill>
                <a:latin typeface="Bickham Script Pro Semibold"/>
              </a:rPr>
              <a:t>Flower Arrangements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テキスト ボックス 6"/>
          <p:cNvSpPr/>
          <p:nvPr/>
        </p:nvSpPr>
        <p:spPr>
          <a:xfrm>
            <a:off x="7402680" y="11673000"/>
            <a:ext cx="204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6"/>
          <p:cNvSpPr/>
          <p:nvPr/>
        </p:nvSpPr>
        <p:spPr>
          <a:xfrm>
            <a:off x="1933560" y="10644120"/>
            <a:ext cx="204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グループ化 21"/>
          <p:cNvGrpSpPr/>
          <p:nvPr/>
        </p:nvGrpSpPr>
        <p:grpSpPr>
          <a:xfrm>
            <a:off x="2690640" y="3270240"/>
            <a:ext cx="4856400" cy="6858000"/>
            <a:chOff x="2690640" y="3270240"/>
            <a:chExt cx="4856400" cy="6858000"/>
          </a:xfrm>
        </p:grpSpPr>
        <p:pic>
          <p:nvPicPr>
            <p:cNvPr id="49" name="Picture 26" descr="shutterstock_14255494"/>
            <p:cNvPicPr/>
            <p:nvPr/>
          </p:nvPicPr>
          <p:blipFill>
            <a:blip r:embed="rId2"/>
            <a:stretch/>
          </p:blipFill>
          <p:spPr>
            <a:xfrm>
              <a:off x="2690640" y="3270240"/>
              <a:ext cx="4856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28"/>
            <p:cNvSpPr/>
            <p:nvPr/>
          </p:nvSpPr>
          <p:spPr>
            <a:xfrm>
              <a:off x="3993840" y="5852880"/>
              <a:ext cx="23004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2090880"/>
                  <a:tab algn="l" pos="4181400"/>
                  <a:tab algn="l" pos="6272280"/>
                  <a:tab algn="l" pos="8362800"/>
                  <a:tab algn="l" pos="10453680"/>
                </a:tabLst>
              </a:pPr>
              <a:r>
                <a:rPr b="1" lang="en-US" sz="5000" spc="-1" strike="noStrike">
                  <a:solidFill>
                    <a:srgbClr val="ff0000"/>
                  </a:solidFill>
                  <a:latin typeface="Arial"/>
                </a:rPr>
                <a:t>Sample Photo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グループ化 22"/>
          <p:cNvGrpSpPr/>
          <p:nvPr/>
        </p:nvGrpSpPr>
        <p:grpSpPr>
          <a:xfrm>
            <a:off x="8201160" y="7524720"/>
            <a:ext cx="5029200" cy="3770280"/>
            <a:chOff x="8201160" y="7524720"/>
            <a:chExt cx="5029200" cy="3770280"/>
          </a:xfrm>
        </p:grpSpPr>
        <p:pic>
          <p:nvPicPr>
            <p:cNvPr id="52" name="Picture 25" descr="shutterstock_3660923"/>
            <p:cNvPicPr/>
            <p:nvPr/>
          </p:nvPicPr>
          <p:blipFill>
            <a:blip r:embed="rId3"/>
            <a:stretch/>
          </p:blipFill>
          <p:spPr>
            <a:xfrm>
              <a:off x="8201160" y="7524720"/>
              <a:ext cx="5029200" cy="37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2"/>
            <p:cNvSpPr/>
            <p:nvPr/>
          </p:nvSpPr>
          <p:spPr>
            <a:xfrm>
              <a:off x="9406080" y="8624880"/>
              <a:ext cx="23004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2090880"/>
                  <a:tab algn="l" pos="4181400"/>
                  <a:tab algn="l" pos="6272280"/>
                  <a:tab algn="l" pos="8362800"/>
                  <a:tab algn="l" pos="10453680"/>
                </a:tabLst>
              </a:pPr>
              <a:r>
                <a:rPr b="1" lang="en-US" sz="5000" spc="-1" strike="noStrike">
                  <a:solidFill>
                    <a:srgbClr val="ff0000"/>
                  </a:solidFill>
                  <a:latin typeface="Arial"/>
                </a:rPr>
                <a:t>Sample Photo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33"/>
          <p:cNvSpPr/>
          <p:nvPr/>
        </p:nvSpPr>
        <p:spPr>
          <a:xfrm>
            <a:off x="16722720" y="9420120"/>
            <a:ext cx="3786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Ｐゴシック"/>
              </a:rPr>
              <a:t>写真はイメージ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7" descr="shutterstock_70897414"/>
          <p:cNvPicPr/>
          <p:nvPr/>
        </p:nvPicPr>
        <p:blipFill>
          <a:blip r:embed="rId4"/>
          <a:stretch/>
        </p:blipFill>
        <p:spPr>
          <a:xfrm>
            <a:off x="13926960" y="5070600"/>
            <a:ext cx="7709040" cy="5075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2"/>
          <p:cNvSpPr/>
          <p:nvPr/>
        </p:nvSpPr>
        <p:spPr>
          <a:xfrm>
            <a:off x="16702200" y="7176960"/>
            <a:ext cx="2300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Sample Phot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27:48Z</dcterms:modified>
  <cp:revision>23</cp:revision>
  <dc:subject/>
  <dc:title>スライド 1</dc:title>
</cp:coreProperties>
</file>