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2ED-2D34-42F9-BE96-8C614724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B8F-1657-4DB4-811B-72E0838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6BE-3038-4956-97F8-39804B7D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5FD-9F79-434C-AD84-E679C259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4AB-7799-4C16-AC76-C4FDBC2C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55E-93E4-4CAF-8459-ABA3305A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1A3-429F-47A6-932D-3C665AB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753-3723-4C88-A64D-E2802E51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C62-E355-4587-A514-9541779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220-FA8E-4BDC-A845-617F5F5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82D-B8AC-4DE1-A982-2A14B17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946-285B-451F-95ED-CE4189A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99A-1D2D-4931-9253-E05402DB0C19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ower_1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8" descr="Flower_1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3"/>
          <p:cNvSpPr/>
          <p:nvPr/>
        </p:nvSpPr>
        <p:spPr>
          <a:xfrm>
            <a:off x="13095360" y="11874600"/>
            <a:ext cx="96631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48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-1285560" y="743040"/>
            <a:ext cx="24912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400" spc="-1" strike="noStrike">
                <a:solidFill>
                  <a:srgbClr val="ff66cc"/>
                </a:solidFill>
                <a:latin typeface="Bickham Script Pro Semibold"/>
              </a:rPr>
              <a:t>Flower Arrangement Classes </a:t>
            </a:r>
            <a:endParaRPr b="0" lang="en-US" sz="1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9"/>
          <p:cNvSpPr/>
          <p:nvPr/>
        </p:nvSpPr>
        <p:spPr>
          <a:xfrm>
            <a:off x="948600" y="12007800"/>
            <a:ext cx="108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412e"/>
                </a:solidFill>
                <a:latin typeface="Arial"/>
              </a:rPr>
              <a:t>Please feel free to ask one of our staff for det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4"/>
          <p:cNvSpPr/>
          <p:nvPr/>
        </p:nvSpPr>
        <p:spPr>
          <a:xfrm>
            <a:off x="1285920" y="3943440"/>
            <a:ext cx="10420200" cy="85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1670400" y="4067280"/>
            <a:ext cx="43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Introduc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6860520" y="384336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1271520" y="677556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1285920" y="589428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5"/>
          <p:cNvSpPr/>
          <p:nvPr/>
        </p:nvSpPr>
        <p:spPr>
          <a:xfrm>
            <a:off x="1584720" y="60181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0412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Beginner'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2"/>
          <p:cNvSpPr/>
          <p:nvPr/>
        </p:nvSpPr>
        <p:spPr>
          <a:xfrm>
            <a:off x="1285920" y="780876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5"/>
          <p:cNvSpPr/>
          <p:nvPr/>
        </p:nvSpPr>
        <p:spPr>
          <a:xfrm>
            <a:off x="1662120" y="7932600"/>
            <a:ext cx="39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 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Advan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7"/>
          <p:cNvSpPr/>
          <p:nvPr/>
        </p:nvSpPr>
        <p:spPr>
          <a:xfrm>
            <a:off x="1281240" y="872820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21"/>
          <p:cNvGrpSpPr/>
          <p:nvPr/>
        </p:nvGrpSpPr>
        <p:grpSpPr>
          <a:xfrm>
            <a:off x="11391840" y="6846840"/>
            <a:ext cx="5819760" cy="4362480"/>
            <a:chOff x="11391840" y="6846840"/>
            <a:chExt cx="5819760" cy="4362480"/>
          </a:xfrm>
        </p:grpSpPr>
        <p:pic>
          <p:nvPicPr>
            <p:cNvPr id="56" name="Picture 31" descr="shutterstock_3660923"/>
            <p:cNvPicPr/>
            <p:nvPr/>
          </p:nvPicPr>
          <p:blipFill>
            <a:blip r:embed="rId2"/>
            <a:stretch/>
          </p:blipFill>
          <p:spPr>
            <a:xfrm>
              <a:off x="11391840" y="6846840"/>
              <a:ext cx="5819760" cy="43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33"/>
            <p:cNvSpPr/>
            <p:nvPr/>
          </p:nvSpPr>
          <p:spPr>
            <a:xfrm>
              <a:off x="12626640" y="10353600"/>
              <a:ext cx="3786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0" descr="shutterstock_52880113"/>
          <p:cNvPicPr/>
          <p:nvPr/>
        </p:nvPicPr>
        <p:blipFill>
          <a:blip r:embed="rId3"/>
          <a:stretch/>
        </p:blipFill>
        <p:spPr>
          <a:xfrm>
            <a:off x="17489520" y="5322960"/>
            <a:ext cx="5033880" cy="5925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6"/>
          <p:cNvSpPr/>
          <p:nvPr/>
        </p:nvSpPr>
        <p:spPr>
          <a:xfrm>
            <a:off x="6869880" y="579600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6869880" y="773892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18437400" y="10449000"/>
            <a:ext cx="3786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ulate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8:41Z</dcterms:modified>
  <cp:revision>18</cp:revision>
  <dc:subject/>
  <dc:title>スライド 1</dc:title>
</cp:coreProperties>
</file>