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3F1-3B95-44E5-B5C6-D9A0D966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2107080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0000" y="7612920"/>
            <a:ext cx="2107080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187-E28F-4272-B1C3-904F660D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0000" y="761292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3E7-D0D9-452B-97E7-DDA00A76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040" y="307296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8440" y="307296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0000" y="761292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040" y="761292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8440" y="7612920"/>
            <a:ext cx="678456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9DA-2534-414A-BEB7-6E5CB6B8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0000" y="3072960"/>
            <a:ext cx="2107080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653-30EE-4838-8553-89D7DD3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2107080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642-1A72-412B-B7E4-6855D054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FED-4E04-4410-A75F-CEE02A90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4F5-F448-4CC8-8DE7-2935B1A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0000" y="526680"/>
            <a:ext cx="2107080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836-43D2-4C16-A161-C9905568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0000" y="761292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E0E-5F42-4CC6-8C7F-BE48D0C5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D39-1D50-41C4-B9FA-AB704729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000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232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0000" y="7612920"/>
            <a:ext cx="21070800" cy="41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A9A-C0A4-4EEB-A6B2-A46779E5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0000" y="526680"/>
            <a:ext cx="21070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0000" y="3072960"/>
            <a:ext cx="21070800" cy="86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000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9200" y="11993400"/>
            <a:ext cx="741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816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9AB6-4FC2-42F9-A91C-DCC8E964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2" descr="文化祭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正方形/長方形 24"/>
          <p:cNvSpPr/>
          <p:nvPr/>
        </p:nvSpPr>
        <p:spPr>
          <a:xfrm rot="21316200">
            <a:off x="826560" y="8286480"/>
            <a:ext cx="647388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グループ化 21"/>
          <p:cNvGrpSpPr/>
          <p:nvPr/>
        </p:nvGrpSpPr>
        <p:grpSpPr>
          <a:xfrm>
            <a:off x="990720" y="8159400"/>
            <a:ext cx="6253200" cy="4488840"/>
            <a:chOff x="990720" y="8159400"/>
            <a:chExt cx="6253200" cy="4488840"/>
          </a:xfrm>
        </p:grpSpPr>
        <p:pic>
          <p:nvPicPr>
            <p:cNvPr id="44" name="図 18" descr="iStock_000034793902Large.jpg"/>
            <p:cNvPicPr/>
            <p:nvPr/>
          </p:nvPicPr>
          <p:blipFill>
            <a:blip r:embed="rId1"/>
            <a:stretch/>
          </p:blipFill>
          <p:spPr>
            <a:xfrm rot="21282600">
              <a:off x="1160640" y="8423280"/>
              <a:ext cx="591336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テキスト ボックス 23"/>
            <p:cNvSpPr/>
            <p:nvPr/>
          </p:nvSpPr>
          <p:spPr>
            <a:xfrm>
              <a:off x="2270160" y="10620360"/>
              <a:ext cx="361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Simulated ima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8"/>
          <p:cNvSpPr/>
          <p:nvPr/>
        </p:nvSpPr>
        <p:spPr>
          <a:xfrm rot="21282000">
            <a:off x="9429120" y="2243160"/>
            <a:ext cx="10744200" cy="17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87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107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Fall  Festival </a:t>
            </a:r>
            <a:endParaRPr b="0" lang="en-US" sz="1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 rot="21282000">
            <a:off x="7566120" y="4390920"/>
            <a:ext cx="110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October 3, 2015 — October 4, 20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8589960" y="7939080"/>
            <a:ext cx="707544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49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ja-JP" sz="4100" spc="-1" strike="noStrike">
                <a:solidFill>
                  <a:srgbClr val="ffffff"/>
                </a:solidFill>
                <a:latin typeface="Arial"/>
              </a:rPr>
              <a:t>○○○○○○ ○○○○○○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49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ja-JP" sz="4100" spc="-1" strike="noStrike">
                <a:solidFill>
                  <a:srgbClr val="ffffff"/>
                </a:solidFill>
                <a:latin typeface="Arial"/>
              </a:rPr>
              <a:t>○○○○○○ ○○○○○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49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ja-JP" sz="4100" spc="-1" strike="noStrike">
                <a:solidFill>
                  <a:srgbClr val="ffffff"/>
                </a:solidFill>
                <a:latin typeface="Arial"/>
              </a:rPr>
              <a:t>○○○○○○ ○○○○○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名称未設定-2"/>
          <p:cNvPicPr/>
          <p:nvPr/>
        </p:nvPicPr>
        <p:blipFill>
          <a:blip r:embed="rId2"/>
          <a:stretch/>
        </p:blipFill>
        <p:spPr>
          <a:xfrm rot="342000">
            <a:off x="6821280" y="2840040"/>
            <a:ext cx="12044160" cy="251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 rot="21282000">
            <a:off x="7593480" y="5375160"/>
            <a:ext cx="11655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me: 10 a.m. - 5 p.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mission. Adults $5; Ages 12–17, $3; under 12, free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9"/>
          <p:cNvSpPr/>
          <p:nvPr/>
        </p:nvSpPr>
        <p:spPr>
          <a:xfrm rot="21202200">
            <a:off x="6785640" y="2574720"/>
            <a:ext cx="6111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0000"/>
                </a:solidFill>
                <a:latin typeface="Arial"/>
              </a:rPr>
              <a:t>201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0"/>
          <p:cNvSpPr/>
          <p:nvPr/>
        </p:nvSpPr>
        <p:spPr>
          <a:xfrm>
            <a:off x="9613800" y="11165040"/>
            <a:ext cx="41497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chool  nam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グループ化 22"/>
          <p:cNvGrpSpPr/>
          <p:nvPr/>
        </p:nvGrpSpPr>
        <p:grpSpPr>
          <a:xfrm>
            <a:off x="-824040" y="-254160"/>
            <a:ext cx="9015480" cy="6731280"/>
            <a:chOff x="-824040" y="-254160"/>
            <a:chExt cx="9015480" cy="6731280"/>
          </a:xfrm>
        </p:grpSpPr>
        <p:pic>
          <p:nvPicPr>
            <p:cNvPr id="54" name="図 16" descr="p01.png"/>
            <p:cNvPicPr/>
            <p:nvPr/>
          </p:nvPicPr>
          <p:blipFill>
            <a:blip r:embed="rId3"/>
            <a:stretch/>
          </p:blipFill>
          <p:spPr>
            <a:xfrm>
              <a:off x="-824040" y="-254160"/>
              <a:ext cx="9015480" cy="67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テキスト ボックス 21"/>
            <p:cNvSpPr/>
            <p:nvPr/>
          </p:nvSpPr>
          <p:spPr>
            <a:xfrm>
              <a:off x="1515960" y="2743200"/>
              <a:ext cx="361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Simulated ima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グループ化 20"/>
          <p:cNvGrpSpPr/>
          <p:nvPr/>
        </p:nvGrpSpPr>
        <p:grpSpPr>
          <a:xfrm>
            <a:off x="1100160" y="2908440"/>
            <a:ext cx="6896160" cy="7353000"/>
            <a:chOff x="1100160" y="2908440"/>
            <a:chExt cx="6896160" cy="7353000"/>
          </a:xfrm>
        </p:grpSpPr>
        <p:pic>
          <p:nvPicPr>
            <p:cNvPr id="57" name="図 17" descr="p02.png"/>
            <p:cNvPicPr/>
            <p:nvPr/>
          </p:nvPicPr>
          <p:blipFill>
            <a:blip r:embed="rId4"/>
            <a:stretch/>
          </p:blipFill>
          <p:spPr>
            <a:xfrm>
              <a:off x="1100160" y="2908440"/>
              <a:ext cx="6896160" cy="73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テキスト ボックス 22"/>
            <p:cNvSpPr/>
            <p:nvPr/>
          </p:nvSpPr>
          <p:spPr>
            <a:xfrm>
              <a:off x="2799360" y="6534000"/>
              <a:ext cx="361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Simulated ima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グループ化 23"/>
          <p:cNvGrpSpPr/>
          <p:nvPr/>
        </p:nvGrpSpPr>
        <p:grpSpPr>
          <a:xfrm>
            <a:off x="14765400" y="6419880"/>
            <a:ext cx="9142200" cy="6972120"/>
            <a:chOff x="14765400" y="6419880"/>
            <a:chExt cx="9142200" cy="6972120"/>
          </a:xfrm>
        </p:grpSpPr>
        <p:pic>
          <p:nvPicPr>
            <p:cNvPr id="60" name="図 16" descr="p04.png"/>
            <p:cNvPicPr/>
            <p:nvPr/>
          </p:nvPicPr>
          <p:blipFill>
            <a:blip r:embed="rId5"/>
            <a:stretch/>
          </p:blipFill>
          <p:spPr>
            <a:xfrm>
              <a:off x="14765400" y="6419880"/>
              <a:ext cx="9142200" cy="69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テキスト ボックス 24"/>
            <p:cNvSpPr/>
            <p:nvPr/>
          </p:nvSpPr>
          <p:spPr>
            <a:xfrm>
              <a:off x="17694360" y="9801000"/>
              <a:ext cx="360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Simulated imag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9-07T02:30:27Z</dcterms:modified>
  <cp:revision>145</cp:revision>
  <dc:subject/>
  <dc:title>スライド 1</dc:title>
</cp:coreProperties>
</file>