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C72-EBAF-4D6D-AA12-41653420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A8A-51AB-4858-BE29-FCC51F1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8F0-0EEF-4411-86C3-EC2F18B4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FDB-AD16-4899-B61B-C5E9C62F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E9D-A3E5-44EB-975D-6D2BCD88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D30-78CC-4256-BEDC-CA18DA5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4D4-F404-49DD-A102-36F7531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7A3-6617-42D0-AE9E-607B1703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0BD-FA03-454C-B2A9-04D8FD2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B67-07D4-4487-9C18-E83C715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2AF-CDF5-46F7-82C6-FEC3E2C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33E-57B2-4CC3-A425-7E40745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90F-16D1-4A56-8B35-77940F41EDB6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8" descr="Cram school_4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71680" y="2344680"/>
          <a:ext cx="22202640" cy="10213920"/>
        </p:xfrm>
        <a:graphic>
          <a:graphicData uri="http://schemas.openxmlformats.org/drawingml/2006/table">
            <a:tbl>
              <a:tblPr/>
              <a:tblGrid>
                <a:gridCol w="4168440"/>
                <a:gridCol w="3610080"/>
                <a:gridCol w="3602160"/>
                <a:gridCol w="3608280"/>
                <a:gridCol w="3605400"/>
                <a:gridCol w="3608280"/>
              </a:tblGrid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ffffff"/>
                          </a:solidFill>
                          <a:latin typeface="Arial"/>
                          <a:ea typeface="HGP創英角ｺﾞｼｯｸUB"/>
                        </a:rPr>
                        <a:t>Monda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ffffff"/>
                          </a:solidFill>
                          <a:latin typeface="Arial"/>
                          <a:ea typeface="HGP創英角ｺﾞｼｯｸUB"/>
                        </a:rPr>
                        <a:t>Tuesda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ffffff"/>
                          </a:solidFill>
                          <a:latin typeface="Arial"/>
                          <a:ea typeface="HGP創英角ｺﾞｼｯｸUB"/>
                        </a:rPr>
                        <a:t>Wed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ffffff"/>
                          </a:solidFill>
                          <a:latin typeface="Arial"/>
                          <a:ea typeface="HGP創英角ｺﾞｼｯｸUB"/>
                        </a:rPr>
                        <a:t>Thu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ffffff"/>
                          </a:solidFill>
                          <a:latin typeface="Arial"/>
                          <a:ea typeface="HGP創英角ｺﾞｼｯｸUB"/>
                        </a:rPr>
                        <a:t>Fri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56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 to 9: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c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c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c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</a:tr>
              <a:tr h="156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55 to 10: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</a:tr>
              <a:tr h="156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5 to 11: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</a:tr>
              <a:tr h="1562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5 to 12: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</a:tr>
              <a:tr h="156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5 to 2: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CH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</a:tr>
              <a:tr h="156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5 to 3: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0ef"/>
                        </a:gs>
                        <a:gs pos="100000">
                          <a:srgbClr val="fafbf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3" name="Text Box 127"/>
          <p:cNvSpPr/>
          <p:nvPr/>
        </p:nvSpPr>
        <p:spPr>
          <a:xfrm>
            <a:off x="18021240" y="1095480"/>
            <a:ext cx="47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School 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8" descr=""/>
          <p:cNvPicPr/>
          <p:nvPr/>
        </p:nvPicPr>
        <p:blipFill>
          <a:blip r:embed="rId2"/>
          <a:stretch/>
        </p:blipFill>
        <p:spPr>
          <a:xfrm>
            <a:off x="542880" y="-5724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961920" y="866880"/>
            <a:ext cx="254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M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6670080" y="237960"/>
            <a:ext cx="8987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Verdana"/>
                <a:ea typeface="Verdana"/>
              </a:rPr>
              <a:t>Timetable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0:33Z</dcterms:modified>
  <cp:revision>23</cp:revision>
  <dc:subject/>
  <dc:title>スライド 1</dc:title>
</cp:coreProperties>
</file>