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168313" cy="23410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2463840" y="685440"/>
            <a:ext cx="193032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10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0C08-BF73-494A-911B-FA24377B95C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2463840" y="685800"/>
            <a:ext cx="193032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B628-4088-41F8-AE34-6920B92486D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736B-5B95-4BCE-8ECD-DE7B25DF3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1185228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8440" y="13533120"/>
            <a:ext cx="1185228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D3A2-595E-4193-A0E7-B4C6102C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731640" y="546264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8440" y="1353312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31640" y="1353312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B49B-8DAB-4264-AD20-825ED9162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38163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5960" y="5462640"/>
            <a:ext cx="38163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8673480" y="5462640"/>
            <a:ext cx="38163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8440" y="13533120"/>
            <a:ext cx="38163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665960" y="13533120"/>
            <a:ext cx="38163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8673480" y="13533120"/>
            <a:ext cx="38163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DD36-0A81-4203-90B6-61189005D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8440" y="5462640"/>
            <a:ext cx="11852280" cy="154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ED85-D4D7-4260-B436-A4553478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11852280" cy="154512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8048-BE05-42D5-919D-89DCFC80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5783760" cy="154512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731640" y="5462640"/>
            <a:ext cx="5783760" cy="154512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F5F3-B93B-415B-ADA3-5CC6E358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47E5-5223-49A6-B6B5-53B48BB5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8440" y="936360"/>
            <a:ext cx="11852280" cy="180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8403-D3F6-42DC-84D7-0F733327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731640" y="5462640"/>
            <a:ext cx="5783760" cy="154512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8440" y="1353312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EC4F-1CA2-4B45-9D77-37764CC8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5783760" cy="154512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731640" y="546264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731640" y="1353312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3EDD-83F4-45EC-BCEE-AF63DBD3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731640" y="546264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8440" y="13533120"/>
            <a:ext cx="1185228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1FB6-A9B4-4E24-B116-E3D190CD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10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8440" y="5462640"/>
            <a:ext cx="11852280" cy="154512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marL="784080" indent="-78408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1" marL="1698480" indent="-65376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2" marL="2612880" indent="-52200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3" marL="3657600" indent="-52236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4" marL="4703760" indent="-52380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5" marL="4703760" indent="-52380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6" marL="4703760" indent="-52380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8440" y="21319920"/>
            <a:ext cx="3073320" cy="1625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98560" y="21319920"/>
            <a:ext cx="4172040" cy="1625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437400" y="21319920"/>
            <a:ext cx="3073320" cy="1625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AA3A-C39F-4FDA-AD22-01A5B7B16064}" type="slidenum">
              <a:rPr b="0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C:\Users\ishitomi\Desktop\ThinkstockPhotos-164517852.jpg"/>
          <p:cNvPicPr/>
          <p:nvPr/>
        </p:nvPicPr>
        <p:blipFill>
          <a:blip r:embed="rId2"/>
          <a:stretch/>
        </p:blipFill>
        <p:spPr>
          <a:xfrm>
            <a:off x="0" y="-1440"/>
            <a:ext cx="13169880" cy="23412240"/>
          </a:xfrm>
          <a:prstGeom prst="rect">
            <a:avLst/>
          </a:prstGeom>
          <a:ln w="0">
            <a:noFill/>
          </a:ln>
        </p:spPr>
      </p:pic>
      <p:sp>
        <p:nvSpPr>
          <p:cNvPr id="6" name="テキスト ボックス 9"/>
          <p:cNvSpPr/>
          <p:nvPr/>
        </p:nvSpPr>
        <p:spPr>
          <a:xfrm>
            <a:off x="2200320" y="16259040"/>
            <a:ext cx="8629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MV Boli"/>
              </a:rPr>
              <a:t>Informa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グループ化 10"/>
          <p:cNvGrpSpPr/>
          <p:nvPr/>
        </p:nvGrpSpPr>
        <p:grpSpPr>
          <a:xfrm>
            <a:off x="228600" y="15595560"/>
            <a:ext cx="12630240" cy="6964560"/>
            <a:chOff x="228600" y="15595560"/>
            <a:chExt cx="12630240" cy="6964560"/>
          </a:xfrm>
        </p:grpSpPr>
        <p:pic>
          <p:nvPicPr>
            <p:cNvPr id="8" name="図 8" descr="iStock_000040205874_Large.jpg"/>
            <p:cNvPicPr/>
            <p:nvPr/>
          </p:nvPicPr>
          <p:blipFill>
            <a:blip r:embed="rId3"/>
            <a:stretch/>
          </p:blipFill>
          <p:spPr>
            <a:xfrm>
              <a:off x="228600" y="15595560"/>
              <a:ext cx="12630240" cy="696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テキスト ボックス 9"/>
            <p:cNvSpPr/>
            <p:nvPr/>
          </p:nvSpPr>
          <p:spPr>
            <a:xfrm>
              <a:off x="2200320" y="16259040"/>
              <a:ext cx="86299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MV Boli"/>
                </a:rPr>
                <a:t>Information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テキスト ボックス 37"/>
          <p:cNvSpPr/>
          <p:nvPr/>
        </p:nvSpPr>
        <p:spPr>
          <a:xfrm>
            <a:off x="1908000" y="431640"/>
            <a:ext cx="9421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50412e"/>
                </a:solidFill>
                <a:latin typeface="Cooper Std Black"/>
              </a:rPr>
              <a:t>TIMETABL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84200" y="2378160"/>
          <a:ext cx="12203280" cy="12934800"/>
        </p:xfrm>
        <a:graphic>
          <a:graphicData uri="http://schemas.openxmlformats.org/drawingml/2006/table">
            <a:tbl>
              <a:tblPr/>
              <a:tblGrid>
                <a:gridCol w="2033640"/>
                <a:gridCol w="2033640"/>
                <a:gridCol w="2033640"/>
                <a:gridCol w="2035080"/>
                <a:gridCol w="2033640"/>
                <a:gridCol w="2033640"/>
              </a:tblGrid>
              <a:tr h="14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e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d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u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i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4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era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l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era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era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l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14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ke Ti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n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4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: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l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graph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  <a:tr h="14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: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: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ch Ti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: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: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C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cc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l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enc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C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cc"/>
                    </a:solidFill>
                  </a:tcPr>
                </a:tc>
              </a:tr>
              <a:tr h="14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: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graph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0000"/>
                    </a:solidFill>
                  </a:tcPr>
                </a:tc>
              </a:tr>
            </a:tbl>
          </a:graphicData>
        </a:graphic>
      </p:graphicFrame>
      <p:sp>
        <p:nvSpPr>
          <p:cNvPr id="55" name="テキスト ボックス 9"/>
          <p:cNvSpPr/>
          <p:nvPr/>
        </p:nvSpPr>
        <p:spPr>
          <a:xfrm>
            <a:off x="2200320" y="16259040"/>
            <a:ext cx="8629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MV Boli"/>
              </a:rPr>
              <a:t>Informa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1:56:09Z</dcterms:created>
  <dc:creator>sf</dc:creator>
  <dc:description/>
  <dc:language>en-US</dc:language>
  <cp:lastModifiedBy>ishitomi</cp:lastModifiedBy>
  <dcterms:modified xsi:type="dcterms:W3CDTF">2015-09-07T02:17:09Z</dcterms:modified>
  <cp:revision>52</cp:revision>
  <dc:subject/>
  <dc:title>スライド 1</dc:title>
</cp:coreProperties>
</file>