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676-9050-4ED9-AACA-97A29364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761292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256-FBAD-4465-9011-8D022D06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8F5-917C-4725-8A02-85BBE5E9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04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844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04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844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77F-2751-4A35-94E3-8B4017ED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67B-2545-4EC1-9B36-389AEB2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16F-F9B8-486F-800B-19D5DA21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534-004C-46B9-A5B3-745A349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F14-B0EC-40C6-B7FD-AFB5E3E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0000" y="526680"/>
            <a:ext cx="21070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28A-10A1-48D0-A666-F230A79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B96-75AD-4680-92B3-2E229CE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EFA-0641-43D4-B112-3A156C5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C9F-7F2A-41A9-9F3C-89D210C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000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9200" y="11993400"/>
            <a:ext cx="741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816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8D6-A17D-4A71-8488-1CB3AD88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School_J_4J"/>
          <p:cNvPicPr/>
          <p:nvPr/>
        </p:nvPicPr>
        <p:blipFill>
          <a:blip r:embed="rId2"/>
          <a:stretch/>
        </p:blipFill>
        <p:spPr>
          <a:xfrm>
            <a:off x="-1440" y="0"/>
            <a:ext cx="23412240" cy="131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chool_J_4J"/>
          <p:cNvPicPr/>
          <p:nvPr/>
        </p:nvPicPr>
        <p:blipFill>
          <a:blip r:embed="rId1"/>
          <a:stretch/>
        </p:blipFill>
        <p:spPr>
          <a:xfrm>
            <a:off x="-1440" y="0"/>
            <a:ext cx="23412240" cy="13169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1619000" y="8734320"/>
            <a:ext cx="10250280" cy="214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28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951760" y="2552760"/>
            <a:ext cx="15613200" cy="324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Seeking Volunteer Caregiver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682360" y="6504120"/>
            <a:ext cx="1072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 you like to bring happiness into the hearts of some elderly people? Bright, thoughtful students are especially welc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3635360" y="12225240"/>
            <a:ext cx="953352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contact the Admission Center to ap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839680" y="9051840"/>
            <a:ext cx="97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ith meals and bathing ● Walks and conversation● Assistance with recreation and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2:58Z</dcterms:modified>
  <cp:revision>167</cp:revision>
  <dc:subject/>
  <dc:title>スライド 1</dc:title>
</cp:coreProperties>
</file>