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3168313" cy="234108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97D0-F133-42C3-9C83-A2B2047AD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FDE0C-C67B-4784-A9FD-034595AE1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36FB-F47A-4D68-8AFC-A23B956B7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16F39-EDD9-40B1-9C31-21B2F4B94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FA45B-0872-4074-AC91-6168A0F7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CB35-5384-477D-B023-9576D981B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9C1F4-0927-41E6-A64A-E5AAA106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041A-950D-4E34-953C-91D6A7896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1BA00-C751-4E34-AC33-31F6CF359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B5D69-1CBD-4128-B620-334FF873C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B1EFF-FF89-40FF-850C-711ACFB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26"/>
              </a:spcBef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305D-8D9C-49EB-8D9D-1C8454EF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EFF9-C9B4-4DF5-AE5C-C5AD9ADCD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D21D-2713-4F5E-B0F2-DFC12F60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7A59-5CEB-4F02-9E4A-148FD2B1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5044-2951-4C52-8AD3-105438C88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6596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8673480" y="546264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5844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466596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8673480" y="13533120"/>
            <a:ext cx="38163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42CD-7236-441D-91A2-DF1B85BC6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F33E-FAF7-422A-864D-8629066EB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170B-A7A7-46A6-9D13-82E5C8FC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E26F-BC1A-466D-A69A-EB76C9AD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58440" y="936360"/>
            <a:ext cx="11852280" cy="1809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26"/>
              </a:spcBef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919F-D974-4ADE-9701-D0F124E67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EF33A-F952-430E-8DFE-1FC9208CA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731640" y="1353312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8306-1716-45A4-9B9E-7C30EC94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84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731640" y="5462640"/>
            <a:ext cx="578376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58440" y="13533120"/>
            <a:ext cx="11852280" cy="736992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indent="0">
              <a:spcBef>
                <a:spcPts val="1826"/>
              </a:spcBef>
              <a:buNone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C974-E124-46AB-A2E2-3EC87B47D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1641E-0C49-43A8-872C-E5B9AD2E7D18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図 19" descr=""/>
          <p:cNvPicPr/>
          <p:nvPr/>
        </p:nvPicPr>
        <p:blipFill>
          <a:blip r:embed="rId2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7" name="Text Box 137"/>
          <p:cNvSpPr/>
          <p:nvPr/>
        </p:nvSpPr>
        <p:spPr>
          <a:xfrm>
            <a:off x="49068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正方形/長方形 16"/>
          <p:cNvSpPr/>
          <p:nvPr/>
        </p:nvSpPr>
        <p:spPr>
          <a:xfrm>
            <a:off x="0" y="0"/>
            <a:ext cx="13169880" cy="23410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正方形/長方形 17"/>
          <p:cNvSpPr/>
          <p:nvPr/>
        </p:nvSpPr>
        <p:spPr>
          <a:xfrm>
            <a:off x="255600" y="512640"/>
            <a:ext cx="12708000" cy="216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テキスト ボックス 18"/>
          <p:cNvSpPr/>
          <p:nvPr/>
        </p:nvSpPr>
        <p:spPr>
          <a:xfrm>
            <a:off x="1425240" y="2205000"/>
            <a:ext cx="2034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Week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図 19" descr=""/>
          <p:cNvPicPr/>
          <p:nvPr/>
        </p:nvPicPr>
        <p:blipFill>
          <a:blip r:embed="rId2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37"/>
          <p:cNvSpPr/>
          <p:nvPr/>
        </p:nvSpPr>
        <p:spPr>
          <a:xfrm>
            <a:off x="490680" y="21950280"/>
            <a:ext cx="1222848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Lorem ipsum dolor sit amet, singulis platonem maiestatis ex qui, an sed harum melio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ndara"/>
                <a:ea typeface="Dotum"/>
              </a:rPr>
              <a:t>Te reque ullamcorper us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テキスト ボックス 47"/>
          <p:cNvSpPr/>
          <p:nvPr/>
        </p:nvSpPr>
        <p:spPr>
          <a:xfrm>
            <a:off x="5987880" y="2205000"/>
            <a:ext cx="1959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Arial"/>
              </a:rPr>
              <a:t>Saturda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正方形/長方形 16"/>
          <p:cNvSpPr/>
          <p:nvPr/>
        </p:nvSpPr>
        <p:spPr>
          <a:xfrm>
            <a:off x="0" y="0"/>
            <a:ext cx="13169880" cy="234108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方形/長方形 17"/>
          <p:cNvSpPr/>
          <p:nvPr/>
        </p:nvSpPr>
        <p:spPr>
          <a:xfrm>
            <a:off x="255600" y="512640"/>
            <a:ext cx="12708000" cy="2163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表 12"/>
          <p:cNvGrpSpPr/>
          <p:nvPr/>
        </p:nvGrpSpPr>
        <p:grpSpPr>
          <a:xfrm>
            <a:off x="795240" y="4492800"/>
            <a:ext cx="11490480" cy="12563280"/>
            <a:chOff x="795240" y="4492800"/>
            <a:chExt cx="11490480" cy="12563280"/>
          </a:xfrm>
        </p:grpSpPr>
        <p:sp>
          <p:nvSpPr>
            <p:cNvPr id="54" name=""/>
            <p:cNvSpPr/>
            <p:nvPr/>
          </p:nvSpPr>
          <p:spPr>
            <a:xfrm>
              <a:off x="795240" y="4492800"/>
              <a:ext cx="11490480" cy="80640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Monday to Frida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79524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709720" y="5299200"/>
              <a:ext cx="19162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62600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54048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54960" y="5299200"/>
              <a:ext cx="19144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369440" y="5299200"/>
              <a:ext cx="1916280" cy="377820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95240" y="9077400"/>
              <a:ext cx="11490480" cy="80784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Saturda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9524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09720" y="9885240"/>
              <a:ext cx="19162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62600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54048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454960" y="9885240"/>
              <a:ext cx="19144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0369440" y="9885240"/>
              <a:ext cx="1916280" cy="318132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95240" y="13066560"/>
              <a:ext cx="11490480" cy="80676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ffffff"/>
                  </a:solidFill>
                  <a:latin typeface="Arial"/>
                </a:rPr>
                <a:t>Sunday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9524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09720" y="13873320"/>
              <a:ext cx="19162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62600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54048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54960" y="13873320"/>
              <a:ext cx="19144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0369440" y="13873320"/>
              <a:ext cx="1916280" cy="3182760"/>
            </a:xfrm>
            <a:prstGeom prst="rect">
              <a:avLst/>
            </a:prstGeom>
            <a:solidFill>
              <a:srgbClr val="e7e7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70972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0972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62600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62600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62600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4048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54048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54048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45496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45496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45496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369440" y="5299200"/>
              <a:ext cx="0" cy="3778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10369440" y="9885240"/>
              <a:ext cx="0" cy="318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0369440" y="13873320"/>
              <a:ext cx="0" cy="3182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95240" y="529920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95240" y="907740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5240" y="988524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95240" y="1306656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5240" y="1387332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95240" y="4492800"/>
              <a:ext cx="0" cy="1256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2285720" y="4492800"/>
              <a:ext cx="0" cy="1256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95240" y="449280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95240" y="17056080"/>
              <a:ext cx="11490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58440" y="936360"/>
            <a:ext cx="11852280" cy="390348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ctr">
            <a:noAutofit/>
          </a:bodyPr>
          <a:p>
            <a:pPr indent="0" algn="ctr">
              <a:buNone/>
              <a:tabLst>
                <a:tab algn="l" pos="0"/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10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0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58440" y="5462640"/>
            <a:ext cx="11852280" cy="154512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rmAutofit/>
          </a:bodyPr>
          <a:p>
            <a:pPr marL="784080" indent="-78408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1" marL="1698480" indent="-6537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2" marL="2612880" indent="-522000">
              <a:spcBef>
                <a:spcPts val="1826"/>
              </a:spcBef>
              <a:buClr>
                <a:srgbClr val="000000"/>
              </a:buClr>
              <a:buFont typeface="Arial"/>
              <a:buChar char="•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3" marL="3657600" indent="-522360">
              <a:spcBef>
                <a:spcPts val="1826"/>
              </a:spcBef>
              <a:buClr>
                <a:srgbClr val="000000"/>
              </a:buClr>
              <a:buFont typeface="Arial"/>
              <a:buChar char="–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4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5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  <a:p>
            <a:pPr lvl="6" marL="4703760" indent="-523800">
              <a:spcBef>
                <a:spcPts val="1826"/>
              </a:spcBef>
              <a:buClr>
                <a:srgbClr val="000000"/>
              </a:buClr>
              <a:buFont typeface="Arial"/>
              <a:buChar char="»"/>
              <a:tabLst>
                <a:tab algn="l" pos="2090880"/>
                <a:tab algn="l" pos="4181400"/>
                <a:tab algn="l" pos="6272280"/>
                <a:tab algn="l" pos="8362800"/>
                <a:tab algn="l" pos="10453680"/>
              </a:tabLst>
            </a:pPr>
            <a:r>
              <a:rPr b="0" lang="en-US" sz="7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7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4"/>
          </p:nvPr>
        </p:nvSpPr>
        <p:spPr>
          <a:xfrm>
            <a:off x="65844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5"/>
          </p:nvPr>
        </p:nvSpPr>
        <p:spPr>
          <a:xfrm>
            <a:off x="4498560" y="21319920"/>
            <a:ext cx="417204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6"/>
          </p:nvPr>
        </p:nvSpPr>
        <p:spPr>
          <a:xfrm>
            <a:off x="9437400" y="21319920"/>
            <a:ext cx="3073320" cy="1625400"/>
          </a:xfrm>
          <a:prstGeom prst="rect">
            <a:avLst/>
          </a:prstGeom>
          <a:noFill/>
          <a:ln w="0">
            <a:noFill/>
          </a:ln>
        </p:spPr>
        <p:txBody>
          <a:bodyPr lIns="209160" rIns="209160" tIns="104400" bIns="1044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3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3D4E-961D-455A-BA4A-7AFEE968B457}" type="slidenum"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94" descr="\\NAS_O4BU_03\Display\アーカイブ\11_サイネージ_中絵\2011\サンプルサイネージ\signages0331_r納品\airport_e\airport_4.jpg"/>
          <p:cNvPicPr/>
          <p:nvPr/>
        </p:nvPicPr>
        <p:blipFill>
          <a:blip r:embed="rId1"/>
          <a:srcRect l="0" t="0" r="0" b="11864"/>
          <a:stretch/>
        </p:blipFill>
        <p:spPr>
          <a:xfrm>
            <a:off x="1724040" y="17254440"/>
            <a:ext cx="9621720" cy="4770360"/>
          </a:xfrm>
          <a:prstGeom prst="rect">
            <a:avLst/>
          </a:prstGeom>
          <a:ln w="0">
            <a:noFill/>
          </a:ln>
        </p:spPr>
      </p:pic>
      <p:pic>
        <p:nvPicPr>
          <p:cNvPr id="141" name="図 19" descr=""/>
          <p:cNvPicPr/>
          <p:nvPr/>
        </p:nvPicPr>
        <p:blipFill>
          <a:blip r:embed="rId2"/>
          <a:stretch/>
        </p:blipFill>
        <p:spPr>
          <a:xfrm>
            <a:off x="10088640" y="447840"/>
            <a:ext cx="2630520" cy="23288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137"/>
          <p:cNvSpPr/>
          <p:nvPr/>
        </p:nvSpPr>
        <p:spPr>
          <a:xfrm>
            <a:off x="490680" y="1036800"/>
            <a:ext cx="647676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74240" rIns="174240" tIns="87120" bIns="8712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da-DK" sz="3500" spc="-1" strike="noStrike">
                <a:solidFill>
                  <a:srgbClr val="ffffff"/>
                </a:solidFill>
                <a:latin typeface="Arial"/>
                <a:ea typeface="Dotum"/>
              </a:rPr>
              <a:t>Lorem ipsum dolor sit ame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テキスト ボックス 12"/>
          <p:cNvSpPr/>
          <p:nvPr/>
        </p:nvSpPr>
        <p:spPr>
          <a:xfrm>
            <a:off x="3776760" y="517680"/>
            <a:ext cx="484956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000000"/>
                </a:solidFill>
                <a:latin typeface="Arial"/>
              </a:rPr>
              <a:t>Buses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テキスト ボックス 13"/>
          <p:cNvSpPr/>
          <p:nvPr/>
        </p:nvSpPr>
        <p:spPr>
          <a:xfrm>
            <a:off x="9582120" y="1033560"/>
            <a:ext cx="516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20, 20-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テキスト ボックス 14"/>
          <p:cNvSpPr/>
          <p:nvPr/>
        </p:nvSpPr>
        <p:spPr>
          <a:xfrm>
            <a:off x="436680" y="2313000"/>
            <a:ext cx="11172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ses leave here at the following tim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Toward: AAA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835200" y="4492800"/>
          <a:ext cx="11490120" cy="12563280"/>
        </p:xfrm>
        <a:graphic>
          <a:graphicData uri="http://schemas.openxmlformats.org/drawingml/2006/table">
            <a:tbl>
              <a:tblPr/>
              <a:tblGrid>
                <a:gridCol w="1914480"/>
                <a:gridCol w="1915920"/>
                <a:gridCol w="1914480"/>
                <a:gridCol w="1914480"/>
                <a:gridCol w="1914840"/>
                <a:gridCol w="1915920"/>
              </a:tblGrid>
              <a:tr h="8064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day to Frid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1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3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3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2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784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turd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0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3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8067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nday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206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4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0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8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9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5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1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147" name="テキスト ボックス 18"/>
          <p:cNvSpPr/>
          <p:nvPr/>
        </p:nvSpPr>
        <p:spPr>
          <a:xfrm>
            <a:off x="2346480" y="22342320"/>
            <a:ext cx="7870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Company nam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テキスト ボックス 12"/>
          <p:cNvSpPr/>
          <p:nvPr/>
        </p:nvSpPr>
        <p:spPr>
          <a:xfrm>
            <a:off x="2743200" y="19419840"/>
            <a:ext cx="996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00"/>
                </a:solidFill>
                <a:latin typeface="Arial"/>
              </a:rPr>
              <a:t>Simulated image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2T01:56:09Z</dcterms:created>
  <dc:creator>sf</dc:creator>
  <dc:description/>
  <dc:language>en-US</dc:language>
  <cp:lastModifiedBy>ishitomi</cp:lastModifiedBy>
  <dcterms:modified xsi:type="dcterms:W3CDTF">2015-04-26T08:37:21Z</dcterms:modified>
  <cp:revision>60</cp:revision>
  <dc:subject/>
  <dc:title>スライド 1</dc:title>
</cp:coreProperties>
</file>