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168313" cy="23410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DE5D-21C6-4994-9529-1C95C8367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1185228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58440" y="13533120"/>
            <a:ext cx="1185228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ECC3-07A9-4F19-B11B-247A092E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731640" y="546264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58440" y="1353312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731640" y="1353312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7A6C-20F9-4277-9F9E-8B5EBAA9A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38163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5960" y="5462640"/>
            <a:ext cx="38163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673480" y="5462640"/>
            <a:ext cx="38163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58440" y="13533120"/>
            <a:ext cx="38163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4665960" y="13533120"/>
            <a:ext cx="38163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8673480" y="13533120"/>
            <a:ext cx="38163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C8EE-C915-4E02-8BF7-A8041B90F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58440" y="5462640"/>
            <a:ext cx="11852280" cy="154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6DC8-AECB-466B-8D70-2F38AFEF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11852280" cy="154512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C263-F9A8-43F9-8AB9-82143017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5783760" cy="154512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731640" y="5462640"/>
            <a:ext cx="5783760" cy="154512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1DAF-8D0B-4AC2-9CBC-E8380640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1CB3-F09B-4B7D-BC15-583780D5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58440" y="936360"/>
            <a:ext cx="11852280" cy="180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77A7-59A9-4410-9DEF-F625FA1D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731640" y="5462640"/>
            <a:ext cx="5783760" cy="154512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58440" y="1353312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0F0C-5AE0-448E-8C2E-D3099FC1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5783760" cy="154512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731640" y="546264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731640" y="1353312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0C73-6F85-4EE2-846A-3C0016D1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731640" y="546264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58440" y="13533120"/>
            <a:ext cx="1185228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E5BA-5F61-4A26-BE26-8558BDDE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10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8440" y="5462640"/>
            <a:ext cx="11852280" cy="154512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marL="784080" indent="-78408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1" marL="1698480" indent="-65376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2" marL="2612880" indent="-52200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3" marL="3657600" indent="-52236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4" marL="4703760" indent="-52380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5" marL="4703760" indent="-52380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6" marL="4703760" indent="-52380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8440" y="21319920"/>
            <a:ext cx="3073320" cy="1625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98560" y="21319920"/>
            <a:ext cx="4172040" cy="1625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437400" y="21319920"/>
            <a:ext cx="3073320" cy="1625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2A28-4239-4875-8C75-1262BDFBAFBD}" type="slidenum">
              <a:rPr b="0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正方形/長方形 10"/>
          <p:cNvSpPr/>
          <p:nvPr/>
        </p:nvSpPr>
        <p:spPr>
          <a:xfrm>
            <a:off x="0" y="0"/>
            <a:ext cx="13204800" cy="23410800"/>
          </a:xfrm>
          <a:prstGeom prst="rect">
            <a:avLst/>
          </a:prstGeom>
          <a:solidFill>
            <a:srgbClr val="0070c0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図 7" descr=""/>
          <p:cNvPicPr/>
          <p:nvPr/>
        </p:nvPicPr>
        <p:blipFill>
          <a:blip r:embed="rId2"/>
          <a:stretch/>
        </p:blipFill>
        <p:spPr>
          <a:xfrm>
            <a:off x="4316400" y="1682640"/>
            <a:ext cx="8534520" cy="2194200"/>
          </a:xfrm>
          <a:prstGeom prst="rect">
            <a:avLst/>
          </a:prstGeom>
          <a:ln w="0">
            <a:noFill/>
          </a:ln>
        </p:spPr>
      </p:pic>
      <p:pic>
        <p:nvPicPr>
          <p:cNvPr id="7" name="図 16" descr=""/>
          <p:cNvPicPr/>
          <p:nvPr/>
        </p:nvPicPr>
        <p:blipFill>
          <a:blip r:embed="rId3"/>
          <a:stretch/>
        </p:blipFill>
        <p:spPr>
          <a:xfrm>
            <a:off x="0" y="1687680"/>
            <a:ext cx="13204800" cy="2182680"/>
          </a:xfrm>
          <a:prstGeom prst="rect">
            <a:avLst/>
          </a:prstGeom>
          <a:ln w="0">
            <a:noFill/>
          </a:ln>
        </p:spPr>
      </p:pic>
      <p:pic>
        <p:nvPicPr>
          <p:cNvPr id="8" name="図 17" descr=""/>
          <p:cNvPicPr/>
          <p:nvPr/>
        </p:nvPicPr>
        <p:blipFill>
          <a:blip r:embed="rId4"/>
          <a:stretch/>
        </p:blipFill>
        <p:spPr>
          <a:xfrm>
            <a:off x="27000" y="19674000"/>
            <a:ext cx="13177800" cy="3597120"/>
          </a:xfrm>
          <a:prstGeom prst="rect">
            <a:avLst/>
          </a:prstGeom>
          <a:ln w="0">
            <a:noFill/>
          </a:ln>
        </p:spPr>
      </p:pic>
      <p:sp>
        <p:nvSpPr>
          <p:cNvPr id="9" name="テキスト ボックス 18"/>
          <p:cNvSpPr/>
          <p:nvPr/>
        </p:nvSpPr>
        <p:spPr>
          <a:xfrm>
            <a:off x="1425240" y="2205000"/>
            <a:ext cx="203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Weekda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図 19" descr=""/>
          <p:cNvPicPr/>
          <p:nvPr/>
        </p:nvPicPr>
        <p:blipFill>
          <a:blip r:embed="rId5"/>
          <a:stretch/>
        </p:blipFill>
        <p:spPr>
          <a:xfrm>
            <a:off x="10088640" y="447840"/>
            <a:ext cx="2630520" cy="2328840"/>
          </a:xfrm>
          <a:prstGeom prst="rect">
            <a:avLst/>
          </a:prstGeom>
          <a:ln w="0">
            <a:noFill/>
          </a:ln>
        </p:spPr>
      </p:pic>
      <p:grpSp>
        <p:nvGrpSpPr>
          <p:cNvPr id="11" name="表 13"/>
          <p:cNvGrpSpPr/>
          <p:nvPr/>
        </p:nvGrpSpPr>
        <p:grpSpPr>
          <a:xfrm>
            <a:off x="376200" y="3349800"/>
            <a:ext cx="12466800" cy="16459200"/>
            <a:chOff x="376200" y="3349800"/>
            <a:chExt cx="12466800" cy="16459200"/>
          </a:xfrm>
        </p:grpSpPr>
        <p:sp>
          <p:nvSpPr>
            <p:cNvPr id="12" name=""/>
            <p:cNvSpPr/>
            <p:nvPr/>
          </p:nvSpPr>
          <p:spPr>
            <a:xfrm>
              <a:off x="376200" y="3349800"/>
              <a:ext cx="1558800" cy="9680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70c0"/>
                  </a:solidFill>
                  <a:latin typeface="Arial"/>
                </a:rPr>
                <a:t>6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935000" y="3349800"/>
              <a:ext cx="1557360" cy="9680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492360" y="3349800"/>
              <a:ext cx="1559160" cy="9680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051520" y="3349800"/>
              <a:ext cx="1558800" cy="9680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610320" y="3349800"/>
              <a:ext cx="1557360" cy="9680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167680" y="3349800"/>
              <a:ext cx="1558800" cy="9680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726480" y="3349800"/>
              <a:ext cx="1557360" cy="9680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1283840" y="3349800"/>
              <a:ext cx="1559160" cy="9680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76200" y="4317840"/>
              <a:ext cx="155880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70c0"/>
                  </a:solidFill>
                  <a:latin typeface="Arial"/>
                </a:rPr>
                <a:t>7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935000" y="4317840"/>
              <a:ext cx="15573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92360" y="4317840"/>
              <a:ext cx="15591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051520" y="4317840"/>
              <a:ext cx="155880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6610320" y="4317840"/>
              <a:ext cx="15573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167680" y="4317840"/>
              <a:ext cx="155880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726480" y="4317840"/>
              <a:ext cx="15573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1283840" y="4317840"/>
              <a:ext cx="15591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76200" y="5286240"/>
              <a:ext cx="155880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70c0"/>
                  </a:solidFill>
                  <a:latin typeface="Arial"/>
                </a:rPr>
                <a:t>8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935000" y="5286240"/>
              <a:ext cx="155736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492360" y="5286240"/>
              <a:ext cx="155916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5051520" y="5286240"/>
              <a:ext cx="155880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10320" y="5286240"/>
              <a:ext cx="155736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167680" y="5286240"/>
              <a:ext cx="155880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9726480" y="5286240"/>
              <a:ext cx="155736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1283840" y="5286240"/>
              <a:ext cx="155916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76200" y="6254640"/>
              <a:ext cx="155880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70c0"/>
                  </a:solidFill>
                  <a:latin typeface="Arial"/>
                </a:rPr>
                <a:t>9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35000" y="6254640"/>
              <a:ext cx="15573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3492360" y="6254640"/>
              <a:ext cx="15591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051520" y="6254640"/>
              <a:ext cx="155880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6610320" y="6254640"/>
              <a:ext cx="15573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167680" y="6254640"/>
              <a:ext cx="155880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9726480" y="6254640"/>
              <a:ext cx="15573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1283840" y="6254640"/>
              <a:ext cx="15591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76200" y="7223040"/>
              <a:ext cx="1558800" cy="9669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70c0"/>
                  </a:solidFill>
                  <a:latin typeface="Arial"/>
                </a:rPr>
                <a:t>1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35000" y="7223040"/>
              <a:ext cx="1557360" cy="9669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492360" y="7223040"/>
              <a:ext cx="1559160" cy="9669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051520" y="7223040"/>
              <a:ext cx="1558800" cy="9669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610320" y="7223040"/>
              <a:ext cx="1557360" cy="9669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167680" y="7223040"/>
              <a:ext cx="1558800" cy="9669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726480" y="7223040"/>
              <a:ext cx="1557360" cy="9669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283840" y="7223040"/>
              <a:ext cx="1559160" cy="9669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76200" y="8190000"/>
              <a:ext cx="155880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70c0"/>
                  </a:solidFill>
                  <a:latin typeface="Arial"/>
                </a:rPr>
                <a:t>1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35000" y="8190000"/>
              <a:ext cx="15573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92360" y="8190000"/>
              <a:ext cx="15591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51520" y="8190000"/>
              <a:ext cx="155880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610320" y="8190000"/>
              <a:ext cx="15573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167680" y="8190000"/>
              <a:ext cx="155880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726480" y="8190000"/>
              <a:ext cx="15573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283840" y="8190000"/>
              <a:ext cx="15591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6200" y="9158400"/>
              <a:ext cx="155880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70c0"/>
                  </a:solidFill>
                  <a:latin typeface="Arial"/>
                </a:rPr>
                <a:t>1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35000" y="9158400"/>
              <a:ext cx="155736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492360" y="9158400"/>
              <a:ext cx="155916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051520" y="9158400"/>
              <a:ext cx="155880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610320" y="9158400"/>
              <a:ext cx="155736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167680" y="9158400"/>
              <a:ext cx="155880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726480" y="9158400"/>
              <a:ext cx="155736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283840" y="9158400"/>
              <a:ext cx="155916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6200" y="10126800"/>
              <a:ext cx="155880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70c0"/>
                  </a:solidFill>
                  <a:latin typeface="Arial"/>
                </a:rPr>
                <a:t>1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935000" y="10126800"/>
              <a:ext cx="15573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92360" y="10126800"/>
              <a:ext cx="15591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051520" y="10126800"/>
              <a:ext cx="155880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610320" y="10126800"/>
              <a:ext cx="15573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167680" y="10126800"/>
              <a:ext cx="155880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9726480" y="10126800"/>
              <a:ext cx="15573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1283840" y="10126800"/>
              <a:ext cx="15591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76200" y="11095200"/>
              <a:ext cx="1558800" cy="9680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70c0"/>
                  </a:solidFill>
                  <a:latin typeface="Arial"/>
                </a:rPr>
                <a:t>1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935000" y="11095200"/>
              <a:ext cx="1557360" cy="9680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492360" y="11095200"/>
              <a:ext cx="1559160" cy="9680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051520" y="11095200"/>
              <a:ext cx="1558800" cy="9680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610320" y="11095200"/>
              <a:ext cx="1557360" cy="9680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167680" y="11095200"/>
              <a:ext cx="1558800" cy="9680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726480" y="11095200"/>
              <a:ext cx="1557360" cy="9680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1283840" y="11095200"/>
              <a:ext cx="1559160" cy="9680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76200" y="12063240"/>
              <a:ext cx="155880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70c0"/>
                  </a:solidFill>
                  <a:latin typeface="Arial"/>
                </a:rPr>
                <a:t>15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935000" y="12063240"/>
              <a:ext cx="15573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492360" y="12063240"/>
              <a:ext cx="15591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51520" y="12063240"/>
              <a:ext cx="155880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610320" y="12063240"/>
              <a:ext cx="15573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167680" y="12063240"/>
              <a:ext cx="155880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726480" y="12063240"/>
              <a:ext cx="15573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283840" y="12063240"/>
              <a:ext cx="15591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76200" y="13031640"/>
              <a:ext cx="155880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70c0"/>
                  </a:solidFill>
                  <a:latin typeface="Arial"/>
                </a:rPr>
                <a:t>16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35000" y="13031640"/>
              <a:ext cx="155736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492360" y="13031640"/>
              <a:ext cx="155916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051520" y="13031640"/>
              <a:ext cx="155880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10320" y="13031640"/>
              <a:ext cx="155736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167680" y="13031640"/>
              <a:ext cx="155880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726480" y="13031640"/>
              <a:ext cx="155736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283840" y="13031640"/>
              <a:ext cx="155916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6200" y="14000040"/>
              <a:ext cx="155880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70c0"/>
                  </a:solidFill>
                  <a:latin typeface="Arial"/>
                </a:rPr>
                <a:t>17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35000" y="14000040"/>
              <a:ext cx="15573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92360" y="14000040"/>
              <a:ext cx="15591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051520" y="14000040"/>
              <a:ext cx="155880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610320" y="14000040"/>
              <a:ext cx="15573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67680" y="14000040"/>
              <a:ext cx="155880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726480" y="14000040"/>
              <a:ext cx="15573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283840" y="14000040"/>
              <a:ext cx="15591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76200" y="14968440"/>
              <a:ext cx="155880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70c0"/>
                  </a:solidFill>
                  <a:latin typeface="Arial"/>
                </a:rPr>
                <a:t>18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35000" y="14968440"/>
              <a:ext cx="155736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92360" y="14968440"/>
              <a:ext cx="155916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51520" y="14968440"/>
              <a:ext cx="155880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610320" y="14968440"/>
              <a:ext cx="155736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167680" y="14968440"/>
              <a:ext cx="155880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726480" y="14968440"/>
              <a:ext cx="155736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283840" y="14968440"/>
              <a:ext cx="155916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6200" y="15936840"/>
              <a:ext cx="155880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70c0"/>
                  </a:solidFill>
                  <a:latin typeface="Arial"/>
                </a:rPr>
                <a:t>19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35000" y="15936840"/>
              <a:ext cx="15573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492360" y="15936840"/>
              <a:ext cx="15591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51520" y="15936840"/>
              <a:ext cx="155880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610320" y="15936840"/>
              <a:ext cx="15573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167680" y="15936840"/>
              <a:ext cx="155880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726480" y="15936840"/>
              <a:ext cx="15573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1283840" y="15936840"/>
              <a:ext cx="15591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6200" y="16905240"/>
              <a:ext cx="1558800" cy="9669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70c0"/>
                  </a:solidFill>
                  <a:latin typeface="Arial"/>
                </a:rPr>
                <a:t>2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35000" y="16905240"/>
              <a:ext cx="1557360" cy="9669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92360" y="16905240"/>
              <a:ext cx="1559160" cy="9669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51520" y="16905240"/>
              <a:ext cx="1558800" cy="9669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10320" y="16905240"/>
              <a:ext cx="1557360" cy="9669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167680" y="16905240"/>
              <a:ext cx="1558800" cy="9669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726480" y="16905240"/>
              <a:ext cx="1557360" cy="9669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283840" y="16905240"/>
              <a:ext cx="1559160" cy="9669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6200" y="17872200"/>
              <a:ext cx="155880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70c0"/>
                  </a:solidFill>
                  <a:latin typeface="Arial"/>
                </a:rPr>
                <a:t>2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35000" y="17872200"/>
              <a:ext cx="15573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492360" y="17872200"/>
              <a:ext cx="15591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51520" y="17872200"/>
              <a:ext cx="155880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610320" y="17872200"/>
              <a:ext cx="15573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167680" y="17872200"/>
              <a:ext cx="155880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726480" y="17872200"/>
              <a:ext cx="15573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283840" y="17872200"/>
              <a:ext cx="1559160" cy="9684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76200" y="18840600"/>
              <a:ext cx="155880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70c0"/>
                  </a:solidFill>
                  <a:latin typeface="Arial"/>
                </a:rPr>
                <a:t>2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35000" y="18840600"/>
              <a:ext cx="155736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92360" y="18840600"/>
              <a:ext cx="155916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51520" y="18840600"/>
              <a:ext cx="155880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610320" y="18840600"/>
              <a:ext cx="155736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167680" y="18840600"/>
              <a:ext cx="155880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726480" y="18840600"/>
              <a:ext cx="155736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283840" y="18840600"/>
              <a:ext cx="1559160" cy="9684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935000" y="3349800"/>
              <a:ext cx="0" cy="1645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492360" y="3349800"/>
              <a:ext cx="0" cy="1645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51520" y="3349800"/>
              <a:ext cx="0" cy="1645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10320" y="3349800"/>
              <a:ext cx="0" cy="1645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7680" y="3349800"/>
              <a:ext cx="0" cy="1645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726480" y="3349800"/>
              <a:ext cx="0" cy="1645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283840" y="3349800"/>
              <a:ext cx="0" cy="1645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6200" y="4317840"/>
              <a:ext cx="1246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6200" y="5286240"/>
              <a:ext cx="1246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6200" y="6254640"/>
              <a:ext cx="1246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6200" y="7223040"/>
              <a:ext cx="1246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76200" y="8190000"/>
              <a:ext cx="1246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6200" y="9158400"/>
              <a:ext cx="1246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6200" y="10126800"/>
              <a:ext cx="1246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6200" y="11095200"/>
              <a:ext cx="1246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6200" y="12063240"/>
              <a:ext cx="1246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6200" y="13031640"/>
              <a:ext cx="1246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6200" y="14000040"/>
              <a:ext cx="1246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6200" y="14968440"/>
              <a:ext cx="1246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6200" y="15936840"/>
              <a:ext cx="1246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6200" y="16905240"/>
              <a:ext cx="1246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6200" y="17872200"/>
              <a:ext cx="1246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6200" y="18840600"/>
              <a:ext cx="1246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6200" y="3349800"/>
              <a:ext cx="0" cy="1645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843000" y="3349800"/>
              <a:ext cx="0" cy="1645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6200" y="3349800"/>
              <a:ext cx="1246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6200" y="19809000"/>
              <a:ext cx="12466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137"/>
          <p:cNvSpPr/>
          <p:nvPr/>
        </p:nvSpPr>
        <p:spPr>
          <a:xfrm>
            <a:off x="490680" y="21950280"/>
            <a:ext cx="1222848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  <a:ea typeface="Dotum"/>
              </a:rPr>
              <a:t>Lorem ipsum dolor sit amet, singulis platonem maiestatis ex qui, an sed harum meli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  <a:ea typeface="Dotum"/>
              </a:rPr>
              <a:t>Te reque ullamcorper us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テキスト ボックス 47"/>
          <p:cNvSpPr/>
          <p:nvPr/>
        </p:nvSpPr>
        <p:spPr>
          <a:xfrm>
            <a:off x="5987880" y="2205000"/>
            <a:ext cx="1959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aturda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正方形/長方形 10"/>
          <p:cNvSpPr/>
          <p:nvPr/>
        </p:nvSpPr>
        <p:spPr>
          <a:xfrm>
            <a:off x="0" y="0"/>
            <a:ext cx="13204800" cy="23410800"/>
          </a:xfrm>
          <a:prstGeom prst="rect">
            <a:avLst/>
          </a:prstGeom>
          <a:solidFill>
            <a:srgbClr val="0070c0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図 21" descr=""/>
          <p:cNvPicPr/>
          <p:nvPr/>
        </p:nvPicPr>
        <p:blipFill>
          <a:blip r:embed="rId1"/>
          <a:stretch/>
        </p:blipFill>
        <p:spPr>
          <a:xfrm>
            <a:off x="4316400" y="1682640"/>
            <a:ext cx="8534520" cy="2194200"/>
          </a:xfrm>
          <a:prstGeom prst="rect">
            <a:avLst/>
          </a:prstGeom>
          <a:ln w="0">
            <a:noFill/>
          </a:ln>
        </p:spPr>
      </p:pic>
      <p:pic>
        <p:nvPicPr>
          <p:cNvPr id="215" name="図 16" descr=""/>
          <p:cNvPicPr/>
          <p:nvPr/>
        </p:nvPicPr>
        <p:blipFill>
          <a:blip r:embed="rId2"/>
          <a:stretch/>
        </p:blipFill>
        <p:spPr>
          <a:xfrm>
            <a:off x="0" y="1687680"/>
            <a:ext cx="13204800" cy="2182680"/>
          </a:xfrm>
          <a:prstGeom prst="rect">
            <a:avLst/>
          </a:prstGeom>
          <a:ln w="0">
            <a:noFill/>
          </a:ln>
        </p:spPr>
      </p:pic>
      <p:pic>
        <p:nvPicPr>
          <p:cNvPr id="216" name="図 17" descr=""/>
          <p:cNvPicPr/>
          <p:nvPr/>
        </p:nvPicPr>
        <p:blipFill>
          <a:blip r:embed="rId3"/>
          <a:stretch/>
        </p:blipFill>
        <p:spPr>
          <a:xfrm>
            <a:off x="57240" y="19586520"/>
            <a:ext cx="13177800" cy="3567240"/>
          </a:xfrm>
          <a:prstGeom prst="rect">
            <a:avLst/>
          </a:prstGeom>
          <a:ln w="0">
            <a:noFill/>
          </a:ln>
        </p:spPr>
      </p:pic>
      <p:sp>
        <p:nvSpPr>
          <p:cNvPr id="217" name="テキスト ボックス 18"/>
          <p:cNvSpPr/>
          <p:nvPr/>
        </p:nvSpPr>
        <p:spPr>
          <a:xfrm>
            <a:off x="1425240" y="2205000"/>
            <a:ext cx="203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Weekda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図 19" descr=""/>
          <p:cNvPicPr/>
          <p:nvPr/>
        </p:nvPicPr>
        <p:blipFill>
          <a:blip r:embed="rId4"/>
          <a:stretch/>
        </p:blipFill>
        <p:spPr>
          <a:xfrm>
            <a:off x="10088640" y="447840"/>
            <a:ext cx="2630520" cy="232884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137"/>
          <p:cNvSpPr/>
          <p:nvPr/>
        </p:nvSpPr>
        <p:spPr>
          <a:xfrm>
            <a:off x="433440" y="233280"/>
            <a:ext cx="941400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ndara"/>
                <a:ea typeface="Dotum"/>
              </a:rPr>
              <a:t>KDM Line Timetab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76200" y="3349800"/>
          <a:ext cx="12466800" cy="16459200"/>
        </p:xfrm>
        <a:graphic>
          <a:graphicData uri="http://schemas.openxmlformats.org/drawingml/2006/table">
            <a:tbl>
              <a:tblPr/>
              <a:tblGrid>
                <a:gridCol w="1558800"/>
                <a:gridCol w="1557360"/>
                <a:gridCol w="1559160"/>
                <a:gridCol w="1558800"/>
                <a:gridCol w="1557360"/>
                <a:gridCol w="1558800"/>
                <a:gridCol w="1557360"/>
                <a:gridCol w="1559160"/>
              </a:tblGrid>
              <a:tr h="96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68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68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68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66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68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68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68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6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68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68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68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68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68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66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2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68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2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68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2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221" name="Text Box 137"/>
          <p:cNvSpPr/>
          <p:nvPr/>
        </p:nvSpPr>
        <p:spPr>
          <a:xfrm>
            <a:off x="666720" y="21950280"/>
            <a:ext cx="1222848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  <a:ea typeface="Dotum"/>
              </a:rPr>
              <a:t>Lorem ipsum dolor sit amet, singulis platonem maiestatis ex qui, an sed harum meli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  <a:ea typeface="Dotum"/>
              </a:rPr>
              <a:t>Te reque ullamcorper us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テキスト ボックス 47"/>
          <p:cNvSpPr/>
          <p:nvPr/>
        </p:nvSpPr>
        <p:spPr>
          <a:xfrm>
            <a:off x="5987880" y="2205000"/>
            <a:ext cx="1959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aturda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37"/>
          <p:cNvSpPr/>
          <p:nvPr/>
        </p:nvSpPr>
        <p:spPr>
          <a:xfrm>
            <a:off x="490680" y="1036800"/>
            <a:ext cx="6476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da-DK" sz="3500" spc="-1" strike="noStrike">
                <a:solidFill>
                  <a:srgbClr val="ffffff"/>
                </a:solidFill>
                <a:latin typeface="Arial"/>
                <a:ea typeface="Dotum"/>
              </a:rPr>
              <a:t>Lorem ipsum dolor sit ame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テキスト ボックス 13"/>
          <p:cNvSpPr/>
          <p:nvPr/>
        </p:nvSpPr>
        <p:spPr>
          <a:xfrm>
            <a:off x="4689360" y="20500920"/>
            <a:ext cx="37465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AD Spac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1:56:09Z</dcterms:created>
  <dc:creator>sf</dc:creator>
  <dc:description/>
  <dc:language>en-US</dc:language>
  <cp:lastModifiedBy>ishitomi</cp:lastModifiedBy>
  <dcterms:modified xsi:type="dcterms:W3CDTF">2015-04-26T08:38:22Z</dcterms:modified>
  <cp:revision>45</cp:revision>
  <dc:subject/>
  <dc:title>スライド 1</dc:title>
</cp:coreProperties>
</file>